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0C5-59FF-4679-8208-B87DD15C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253-0D6E-461C-A8A7-9F4E37E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0B7-FB20-444F-A81F-A0EFF757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F46-E89D-4C6C-9101-83E2B0F0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1FCC-1213-4503-9EE2-9EA49C0F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1B8-7992-4DFE-8337-E77CEABE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F355-E50B-488F-8472-AF5FF516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9324-AEA4-457C-9659-13278F1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A2EF-067E-4911-A9CF-59AA2CBE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2BE0-D1E2-465A-9C07-A56263E0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32F9-0AC5-425B-8810-E7F66F4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73D-2010-4595-9B23-AC2DEA2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39F7-E79D-4F1B-9CC3-35B8EC18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320F-4B31-4DE6-8AE8-3B8A1E9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6668-7B6F-4649-B1E2-9159D05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63A0-A75B-457F-8CFA-D40F7BCD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B923-F59E-4973-B668-581534F9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577-B37E-440D-AD76-DCB046C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AF5-EE42-4AE3-9371-56344A9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0A1-DEDF-4FC7-AF54-4B0D98E2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C8D-185A-4478-96B2-31E2B413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1EC-8031-4C43-B1AC-B68DFF4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0C4-EECC-457E-8E7F-B41335E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F48-77A9-4B64-BFC5-76C88EF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A75F-A341-4D3A-A154-376FB8A0F43E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F750-9638-4042-912B-385D01201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Click to add subtitle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800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3964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7148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8156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60600" y="5348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3460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11680" y="1782360"/>
            <a:ext cx="6437160" cy="1387800"/>
            <a:chOff x="1111680" y="1782360"/>
            <a:chExt cx="6437160" cy="1387800"/>
          </a:xfrm>
        </p:grpSpPr>
        <p:sp>
          <p:nvSpPr>
            <p:cNvPr id="143" name=""/>
            <p:cNvSpPr/>
            <p:nvPr/>
          </p:nvSpPr>
          <p:spPr>
            <a:xfrm rot="3418800">
              <a:off x="1321920" y="20073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286360" y="2179080"/>
              <a:ext cx="931680" cy="131760"/>
              <a:chOff x="2286360" y="2179080"/>
              <a:chExt cx="931680" cy="13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228636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7564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07692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5288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3418800">
              <a:off x="3043080" y="1941480"/>
              <a:ext cx="924480" cy="1003680"/>
            </a:xfrm>
            <a:prstGeom prst="rect">
              <a:avLst/>
            </a:prstGeom>
            <a:solidFill>
              <a:srgbClr val="2d6bc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007880" y="2179080"/>
              <a:ext cx="931680" cy="131760"/>
              <a:chOff x="4007880" y="2179080"/>
              <a:chExt cx="931680" cy="131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0078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971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984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744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rot="3418800">
              <a:off x="4692600" y="1941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729040" y="2179080"/>
              <a:ext cx="1218240" cy="131760"/>
              <a:chOff x="5729040" y="2179080"/>
              <a:chExt cx="1218240" cy="131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72904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4568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6260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19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3418800">
              <a:off x="6413760" y="1941480"/>
              <a:ext cx="924480" cy="1003680"/>
            </a:xfrm>
            <a:prstGeom prst="rect">
              <a:avLst/>
            </a:prstGeom>
            <a:solidFill>
              <a:srgbClr val="2d6bc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4252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950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52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804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793880"/>
          <a:ext cx="7620120" cy="376848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601600">
            <a:off x="1382400" y="220824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601600">
            <a:off x="1435320" y="2175840"/>
            <a:ext cx="569844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rot="20602200">
            <a:off x="1438200" y="218988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601600">
            <a:off x="1440000" y="218808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rot="20602200">
            <a:off x="142344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28840" y="1509120"/>
            <a:ext cx="6919200" cy="4357800"/>
            <a:chOff x="528840" y="1509120"/>
            <a:chExt cx="6919200" cy="4357800"/>
          </a:xfrm>
        </p:grpSpPr>
        <p:sp>
          <p:nvSpPr>
            <p:cNvPr id="184" name=""/>
            <p:cNvSpPr/>
            <p:nvPr/>
          </p:nvSpPr>
          <p:spPr>
            <a:xfrm rot="20712600">
              <a:off x="781560" y="2280960"/>
              <a:ext cx="6413400" cy="28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03680" y="1212480"/>
            <a:ext cx="6957360" cy="4863240"/>
            <a:chOff x="1003680" y="1212480"/>
            <a:chExt cx="6957360" cy="4863240"/>
          </a:xfrm>
        </p:grpSpPr>
        <p:sp>
          <p:nvSpPr>
            <p:cNvPr id="188" name="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539200">
              <a:off x="1323720" y="209844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8480" y="4325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0960" y="4554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38080" y="4254480"/>
            <a:ext cx="1513080" cy="1511280"/>
            <a:chOff x="838080" y="4254480"/>
            <a:chExt cx="1513080" cy="1511280"/>
          </a:xfrm>
        </p:grpSpPr>
        <p:sp>
          <p:nvSpPr>
            <p:cNvPr id="200" name=""/>
            <p:cNvSpPr/>
            <p:nvPr/>
          </p:nvSpPr>
          <p:spPr>
            <a:xfrm>
              <a:off x="838080" y="4254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080" y="4254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b7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7080" y="4353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7080" y="4353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7b4a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2960" y="4419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63760" y="25430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ff9900"/>
              </a:gs>
              <a:gs pos="100000">
                <a:srgbClr val="fedca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486320" y="4267080"/>
            <a:ext cx="1512720" cy="1511280"/>
            <a:chOff x="4486320" y="4267080"/>
            <a:chExt cx="1512720" cy="1511280"/>
          </a:xfrm>
        </p:grpSpPr>
        <p:sp>
          <p:nvSpPr>
            <p:cNvPr id="208" name=""/>
            <p:cNvSpPr/>
            <p:nvPr/>
          </p:nvSpPr>
          <p:spPr>
            <a:xfrm>
              <a:off x="448632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d6bc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8632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2d6bc7"/>
                </a:gs>
                <a:gs pos="100000">
                  <a:srgbClr val="86a9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8532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8396b"/>
                </a:gs>
                <a:gs pos="50000">
                  <a:srgbClr val="2d6bc7"/>
                </a:gs>
                <a:gs pos="100000">
                  <a:srgbClr val="1839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532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53360"/>
                </a:gs>
                <a:gs pos="100000">
                  <a:srgbClr val="2d6bc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1200" y="44316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4315b"/>
                </a:gs>
                <a:gs pos="100000">
                  <a:srgbClr val="2d6b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59400" y="4267080"/>
            <a:ext cx="1513080" cy="1511280"/>
            <a:chOff x="6359400" y="4267080"/>
            <a:chExt cx="1513080" cy="1511280"/>
          </a:xfrm>
        </p:grpSpPr>
        <p:sp>
          <p:nvSpPr>
            <p:cNvPr id="214" name=""/>
            <p:cNvSpPr/>
            <p:nvPr/>
          </p:nvSpPr>
          <p:spPr>
            <a:xfrm>
              <a:off x="635940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5940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58400" y="43657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58400" y="43657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84848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24280" y="44316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687760" y="4267080"/>
            <a:ext cx="1512720" cy="1511280"/>
            <a:chOff x="2687760" y="4267080"/>
            <a:chExt cx="1512720" cy="1511280"/>
          </a:xfrm>
        </p:grpSpPr>
        <p:sp>
          <p:nvSpPr>
            <p:cNvPr id="220" name=""/>
            <p:cNvSpPr/>
            <p:nvPr/>
          </p:nvSpPr>
          <p:spPr>
            <a:xfrm>
              <a:off x="268776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776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b7b7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676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8676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a4a7b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2640" y="44316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905120" y="19051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50000">
                <a:srgbClr val="e5e5fe"/>
              </a:gs>
              <a:gs pos="100000">
                <a:srgbClr val="9999ff"/>
              </a:gs>
            </a:gsLst>
            <a:lin ang="108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20400" y="4890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8000" y="4890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0" y="4890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2760" y="4876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10:07Z</dcterms:created>
  <dc:creator>Bonnie Ritchey</dc:creator>
  <dc:description/>
  <dc:language>en-US</dc:language>
  <cp:lastModifiedBy>Bonnie Ritchey</cp:lastModifiedBy>
  <dcterms:modified xsi:type="dcterms:W3CDTF">2004-10-24T17:10:29Z</dcterms:modified>
  <cp:revision>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